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E1B5-92D7-4BBB-BE39-65B01753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2A4-76A8-42F5-8CAC-1509B0BA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F2539-05A1-4442-B348-B03D6937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E1E50-D712-4F24-B882-8B17C562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B4AAD-AEDF-4579-AD07-01423C75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26BEB-3489-49BA-9C7B-40F7042E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12374-7CD1-4396-8C48-306897B3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010AD-14B6-4A28-9931-3A4B5557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88C7B-0A4C-4669-A5CA-18B9B658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724F2-7A9F-4B4C-9924-2C63BF7C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80DF2-1677-45C2-BAAA-3C1C4434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C8886-86F0-4CED-A6D0-2963FBB2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D72-EFEC-4CA8-A8AF-2D7A53FC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380C7-5FCB-4AF5-BD3E-15482561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35D6D-D07D-41BA-89C1-16768A9F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10B2C-A155-40BB-B43F-C936E8A2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E3CE3-D946-4879-8030-1FF2AFC5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1A55C-F91B-4C02-8A58-6D706D4D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C1E7C-9966-460D-A1A5-AD112B64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93975-BC06-41CF-9DCC-A188D213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CF413-E79A-48C9-8A9C-92AB3C08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ADF19-7F68-4CFB-921E-E72145AF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FFD27-DD14-40EB-9DF3-B5702839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BF5-119D-4FEB-BBD7-B1288209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B02C4-0A59-4105-A6AC-C7D15201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8896C-6122-4F0E-95AD-BE9C8D69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76451-6DE0-4029-9615-3C543C67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8A8E9-AAEB-41AA-9A37-669FAC67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B18F2-8B67-4FCF-BEAF-1C5E8BAA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0397B-0A6F-40FC-923B-AEFCE64E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8D6A9-EF24-44DA-B1D5-16B86525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591F4-83A6-44FD-A903-43B72EB3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04521-EB9A-466E-A12D-DF6303E4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6DAEF-0EC0-4CAF-B67C-EDDA1CA4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E171-E5C2-4771-A328-310F3C7F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AA470-59AE-4860-A7BF-51CFDE81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C339F-E820-4DE0-AED3-37C2BF52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D0165-AB99-47F4-80B2-27148402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9C67D-0A8F-4CAB-AB0D-52E0819F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84F21-2186-41BF-9F33-DB4D76D8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7E979-F554-493E-A0F1-2297C5E5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E7A33-8031-4415-B541-CB5C314F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FC7DF-386E-4B65-AAA7-75526491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FBA1B-A1FC-4FC7-95C3-0FADD8E7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45680-62E2-4EDC-A079-F103DA51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0323-B0AF-491A-82B0-86F3D617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EF00E-89D9-4958-B016-DBFAEB99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8F811-0492-49AB-90B3-15C29E06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624E4-7598-4EFB-8CB9-0DA73DB1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F57E8-0648-4B61-BC08-9D531AC6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AA835-713B-420F-A4F0-E8DF9E3A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1373-3D96-4899-8420-8CC96621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D8B0-DCE2-48C6-A808-CC1293F2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EE55-CB8E-4B17-968B-390F16B3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FB8B-FB03-4F13-89E0-66838369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551D-CA95-4CD3-939D-9B9262A0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83E-6679-444C-91E9-9E28C057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3AAB-800A-44CE-921D-9C34B3F8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B670-E882-47C3-8DF7-957938A2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14A1-61E5-4A4C-B20D-6771CA18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0F10-C3E1-498A-8C49-DC3F0DD0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219C-61A5-47A3-8C3D-F16EB537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E7F07-46CF-434A-AB29-D100244A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5EDC3-9193-4EF6-A547-80F838F9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3954-82F0-4C3E-8550-59038B47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06A38-AD86-4181-904F-EB4AD656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3193-C797-4D98-87B3-1C2DE764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CA8-C7FA-4E7D-8BA3-D80A5AFF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26079-99AB-4EBC-9A4A-7417CC0E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8ED38-8D37-4147-B020-ED784110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9FA74-E9D1-494A-99AB-3E2ACCA8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2EA52-E79E-40AF-8A6A-DA31C252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A244C-53F6-4FB9-B41C-5E1FEF8A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5DC83-AA89-412F-9799-9AADA258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3E71B-5BB3-419C-A004-16F1E4CC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998A5-D94A-4491-9ADD-89C7A21C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78A63-5E2A-4A49-9D56-EC7BEF4F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02C32-C3A1-480A-B0C7-449E05B9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86F3-19FC-473D-8B5D-2C136520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8C188-FF67-4E78-8954-7F5E367A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95617-A137-4E55-8D51-B4F0682A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6FE14-1E41-4168-ABEC-96CBB063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9F96F-AD10-4354-8752-803D9E71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C1320-DF2E-4CBB-A10B-AC6CE8B4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129A8-3709-4372-B004-F0D859CF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F38D2-5436-43AF-8868-AECB154E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FB1B8-49A1-4810-A195-515AFF83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4FF1D-1548-45E7-AFC6-49E65631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A8087-B72E-48DA-966E-E26117DD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B1CD-C576-4A67-B2C6-5A1E0DF7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09BB0-973F-4F85-9874-BD1BC9FF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D872A-E886-4C43-9BC8-B01D2DDD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99B0E-7205-46AB-A0DB-C2002A43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6ABA3-4ADA-41BE-86F4-ADD6875D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A8383-261F-4687-9459-BBE9343E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93FEC-8C8C-4A91-A631-A93176BF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D3F56-6175-4FF2-B888-011900FC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F5450-7EE2-4DC0-AF34-B51BA32C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8E433-0317-4409-82AB-6660CE52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9EEF1-F6F7-46D4-822B-70DA2BB4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7D2-2A99-4FBA-B90A-DA12B77A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D053F-09AA-422C-84F3-4BFA6037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8E15C-D142-42B5-A0E4-F8C22247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622C7-B139-4B2F-BDD4-4026962B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1EFE7-11CC-4156-B563-A0F186E3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53F27-A10C-4388-825B-B12EB211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D5599-F62A-451A-9093-9D519277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DA35E-00E0-4753-9751-BF0F8493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791F6-72B2-4E00-AC47-AC9B8286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C33F6-BFD6-47BC-9451-E73A1AF3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77C01-4601-4F6B-8658-6DF253B7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22D4-2A3F-410D-B212-3BDF771E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27403-CFBE-4E36-87AC-87F44DF5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72C4F-5769-4AEB-871E-9FC24F18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DF6A7-7014-4EEE-AE6B-27777AAD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ED9D2-D32E-4E6E-A11F-6749BBCD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90397-2EFE-4E4B-9441-3865B743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DDA07-75CE-4B56-84A8-AC971438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F9060-04AD-47C3-9948-D943A8B8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EFDE9-AC03-49F3-8222-9DCA72F4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B625A-AC91-4D56-8569-6CBF1B1C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A98EE-D105-4465-B866-C192E477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462-FE9B-41BD-BBE4-69262A64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11EBF-DEDF-4B1F-BE13-BB1FF97F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54832-C0E0-4761-865A-902F9C17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7F51D-485D-4985-BC55-08A2E295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CED40-FC60-4390-9366-154433D1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6AAC8-3586-4669-AA29-DA0F9317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22037-38C8-47EE-B345-3A799F70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2944D-1598-4082-BBC4-31952D60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AEF8E-F20E-4E61-8AE7-43AE75F5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1306B-EA18-41B3-803B-35F34F73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9CD7D-0524-4A0C-8C7D-4C1FAE54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766-9C53-47D4-8FBE-28C76F89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D67B9-B032-4E70-9F46-8D079154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5952E-4178-4F38-A1FC-FD349163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FBC38-95AC-4CA0-845A-823E55BD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11C45-E4C5-4915-8DEB-20534342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4BFEC-F260-446C-B4EF-0B7DA45B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AD404-1147-471C-BC46-0FFAAD91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42C34-8F54-47FC-998C-5E503899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E7BD6-8F70-4B5E-BCB2-A578743E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A4A2C-693D-4522-B579-9F4BF615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25D9E-857B-47EA-9885-ABE94E03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5B91-983E-4226-A7B0-6DFE476CE5D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EACE-F7EF-4504-93C3-FEBD74403E1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9392-1F42-4E98-8FD3-1851AE1363A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BBD3-B532-4321-B313-369D0BCA337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6FBF-EC0C-4B56-B0F0-252BC3EEE81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36F9-C5F7-400E-AC67-30798B47DF6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A813-BEE6-4C60-9C3F-5F7D1032944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F462-177D-4F97-930D-1A198EC87F0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54AD-BC26-4F4B-8E1A-8A6ED320AD1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6892-977D-4D7B-89D5-1FD6D7DED77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DFB8-F871-4491-A198-1071F2F9535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BA31-C15F-475D-8338-96F517C429E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55 Plášť svoj noc, keď prestie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lášť svoj noc, keď prestier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nko spať sa uber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arosť, prácu odklad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u Bohu chválu 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a, Otče na neb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ša moja veleb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pokoja tvojho da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za radosť, práce zdar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mi, prosím z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pustiť hriech, slab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o túto tmavú noc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ma chráni tvoja moc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skončí žitia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bostrie ma smrti ti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aj mňa v pravý č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kriesi mocný Pánov hla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1T13:21:53Z</dcterms:modified>
  <cp:revision>59</cp:revision>
  <dc:subject/>
  <dc:title>Je veľký náš Pán, on slávy je Kráľ Nech do všetkých strán  spev vrúcnych znie chvál.</dc:title>
</cp:coreProperties>
</file>